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0B6C-1167-46D5-A0F1-8B3BF6E24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D94C-BA1B-4406-8C94-34D0BA9CEE92}" type="slidenum">
              <a:rPr b="0" lang="en-US" sz="1200" spc="-1" strike="noStrike">
                <a:solidFill>
                  <a:srgbClr val="41280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3D7C-73F7-46DB-AC68-0CA984A4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03E-5A0A-4C06-A863-7A8CF42A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9A5-7368-4E02-8566-3DA95F07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CEA-DC0D-49BA-936C-ADAA0617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FBF6-C209-4E2C-9B8C-C353BFF8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2FF7-1360-427F-AFB8-365BBCF2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C6D3-DC6A-4218-B064-44318767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3440-686E-4CD2-A911-3B21C9AA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6283-C938-4DC4-AEC8-E49FD53A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7DAA-BB6C-44EA-8734-DB64B4C5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571E-D1ED-4EA5-9577-19D1C32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FDA-9C34-4486-A857-8E0A43E4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8AB5-051F-4D17-8477-42D01592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31DD-E77D-48E3-B6BC-B930F7E1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0245-71A6-4230-9B3E-938116FA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6407-C235-46B3-B015-659D8CC9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1D96-7597-47F6-8685-90D4BCBA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1A6-6F83-4121-AB3A-FC957A40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83F4-D4A8-47D2-8C81-7DA08326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5C5-FF42-48F7-8804-02C379D9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E75-EB3F-4F04-A313-B6F1BC26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D13-A3D6-43A1-950F-32EF2F5E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2A86-A870-4EA4-9EC4-DEB2C4A8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2CC-F0E0-4C2B-90F1-C5CDFC44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1" name="Picture 1027" descr="topup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topup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029" descr="topup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Picture 1030" descr="mark"/>
          <p:cNvPicPr/>
          <p:nvPr/>
        </p:nvPicPr>
        <p:blipFill>
          <a:blip r:embed="rId5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F2C3-CAC2-4CF7-A0BF-88FB7CE8FB71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34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9" name="Picture 1035" descr="top"/>
            <p:cNvPicPr/>
            <p:nvPr/>
          </p:nvPicPr>
          <p:blipFill>
            <a:blip r:embed="rId6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036" descr="top"/>
            <p:cNvPicPr/>
            <p:nvPr/>
          </p:nvPicPr>
          <p:blipFill>
            <a:blip r:embed="rId7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037" descr="top"/>
            <p:cNvPicPr/>
            <p:nvPr/>
          </p:nvPicPr>
          <p:blipFill>
            <a:blip r:embed="rId8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51" name="Picture 3" descr="topup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4" descr="topup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5" descr="topup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6" descr="mark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0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6" name="Picture 11" descr="top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2" descr="top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3" descr="top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617F-D20E-4174-B955-A572F7E83BD8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Winged_vic_mxc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057400" y="9907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219320" y="17524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280d"/>
                </a:solidFill>
                <a:latin typeface="Tahoma"/>
              </a:rPr>
              <a:t>PARA EMPEZAR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1280d"/>
                </a:solidFill>
                <a:latin typeface="Tahoma"/>
              </a:rPr>
              <a:t>(usen las preguntas para ayudarles)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En parejas, hablen de sus opiniones del arte: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e gusta el arte?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ienes un artista favorito?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Haces la clase de arte?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Cuál prefieres, pintar o dibujar?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Vas al museo con tu familia a veces?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TIPOS DE ARTE</a:t>
            </a:r>
            <a:endParaRPr b="0" lang="en-US" sz="4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943600" y="22096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943600" y="358128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13" name="Picture 32" descr="http://sepiensa.org.mx/contenidos/h_mexicanas/imagen/arriv1.jpg"/>
          <p:cNvPicPr/>
          <p:nvPr/>
        </p:nvPicPr>
        <p:blipFill>
          <a:blip r:embed="rId1"/>
          <a:stretch/>
        </p:blipFill>
        <p:spPr>
          <a:xfrm>
            <a:off x="1447920" y="1905120"/>
            <a:ext cx="3200400" cy="38462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5105520" y="4876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Paisaje Zapatista (Diego Rivera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www.artespain.com/wp-content/uploads/retrato-de-mujer-de-diego-rivera.jpg"/>
          <p:cNvPicPr/>
          <p:nvPr/>
        </p:nvPicPr>
        <p:blipFill>
          <a:blip r:embed="rId1"/>
          <a:stretch/>
        </p:blipFill>
        <p:spPr>
          <a:xfrm>
            <a:off x="838080" y="1981080"/>
            <a:ext cx="4686480" cy="3438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5867280" y="22860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Tahoma"/>
              </a:rPr>
              <a:t>un retrato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257800" y="7621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trato de mujer (Diego Rivera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works_monkey"/>
          <p:cNvPicPr/>
          <p:nvPr/>
        </p:nvPicPr>
        <p:blipFill>
          <a:blip r:embed="rId1"/>
          <a:stretch/>
        </p:blipFill>
        <p:spPr>
          <a:xfrm>
            <a:off x="1523880" y="1676520"/>
            <a:ext cx="2971800" cy="4154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5029200" y="19810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Tahoma"/>
              </a:rPr>
              <a:t>un autorretrato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105520" y="4876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utorretrato con mono (Frida Kahlo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28954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ural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22" name="Picture 4" descr="el mundo azteca"/>
          <p:cNvPicPr/>
          <p:nvPr/>
        </p:nvPicPr>
        <p:blipFill>
          <a:blip r:embed="rId1"/>
          <a:stretch/>
        </p:blipFill>
        <p:spPr>
          <a:xfrm>
            <a:off x="2819520" y="838080"/>
            <a:ext cx="5943600" cy="5004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152280" y="41148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El mundo Azteca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(Diego Rivera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172200" y="342900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dibujo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5867280" y="15238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ccidente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(Frida Kahlo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327560" y="-693720"/>
            <a:ext cx="194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327560" y="-693720"/>
            <a:ext cx="1942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28" name="Picture 11" descr="http://farm5.static.flickr.com/4071/4677691528_7da1242fee.jpg"/>
          <p:cNvPicPr/>
          <p:nvPr/>
        </p:nvPicPr>
        <p:blipFill>
          <a:blip r:embed="rId1"/>
          <a:stretch/>
        </p:blipFill>
        <p:spPr>
          <a:xfrm>
            <a:off x="990720" y="1981080"/>
            <a:ext cx="47624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819520" y="9144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a escultura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30" name="Picture 5" descr="mosca"/>
          <p:cNvPicPr/>
          <p:nvPr/>
        </p:nvPicPr>
        <p:blipFill>
          <a:blip r:embed="rId1"/>
          <a:stretch/>
        </p:blipFill>
        <p:spPr>
          <a:xfrm>
            <a:off x="2743200" y="2286000"/>
            <a:ext cx="3949560" cy="2949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5715000" y="5105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sca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(Aztecas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819520" y="52578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onumento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33" name="Picture 5" descr="http://upload.wikimedia.org/wikipedia/commons/thumb/a/a5/Winged_vic_mxc.jpg/200px-Winged_vic_mx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523880"/>
            <a:ext cx="1905120" cy="3514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809880" y="20574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numento de Independencia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(en el Zócalo, Ciudad de México, México)</a:t>
            </a:r>
            <a:endParaRPr b="0" lang="en-US" sz="2400" spc="-1" strike="noStrike">
              <a:solidFill>
                <a:srgbClr val="41280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838080" y="14479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1280d"/>
                </a:solidFill>
                <a:latin typeface="Verdana"/>
              </a:rPr>
              <a:t>VOCABULARIO</a:t>
            </a:r>
            <a:r>
              <a:rPr b="0" lang="en-US" sz="3600" spc="-1" strike="noStrike">
                <a:solidFill>
                  <a:srgbClr val="41280d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41280d"/>
                </a:solidFill>
                <a:latin typeface="Verdana"/>
              </a:rPr>
              <a:t>- TIPO</a:t>
            </a:r>
            <a:endParaRPr b="0" lang="en-US" sz="4800" spc="-1" strike="noStrike">
              <a:solidFill>
                <a:srgbClr val="41280d"/>
              </a:solidFill>
              <a:latin typeface="Verdana"/>
            </a:endParaRPr>
          </a:p>
        </p:txBody>
      </p:sp>
      <p:pic>
        <p:nvPicPr>
          <p:cNvPr id="136" name="Text Box 2" descr=""/>
          <p:cNvPicPr/>
          <p:nvPr/>
        </p:nvPicPr>
        <p:blipFill>
          <a:blip r:embed="rId1"/>
          <a:stretch/>
        </p:blipFill>
        <p:spPr>
          <a:xfrm>
            <a:off x="907920" y="2419200"/>
            <a:ext cx="7480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2:33:39Z</dcterms:created>
  <dc:creator>Student</dc:creator>
  <dc:description/>
  <dc:language>en-US</dc:language>
  <cp:lastModifiedBy>Windows User</cp:lastModifiedBy>
  <dcterms:modified xsi:type="dcterms:W3CDTF">2011-02-23T06:42:08Z</dcterms:modified>
  <cp:revision>28</cp:revision>
  <dc:subject/>
  <dc:title>PowerPoint Presentation</dc:title>
</cp:coreProperties>
</file>